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81A7-5A58-4286-A064-A37D8FFCE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542C-2048-49F3-8026-31F4266E2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138-EFE0-49B2-8515-50DB1548F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F0B8-274C-404C-B91F-3F7C22CAB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635C-EC38-4209-8D7A-DC2607C03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CDD-E9CC-4840-AE4F-4D6D3ECCD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1FB0-6B6E-4443-9B17-4FFF43CF6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26C7-0F31-4C71-A113-D7769D2B9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3D9E-6720-49A8-B5B0-0BA16AFE2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475-B671-42D2-9FDB-49AE0DDD5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EC5A-C8B8-449E-AF18-EE37DAEA8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FAA3-9204-4743-A62D-D6A9B7532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8AC6-03E9-4D9F-AAE0-45EBA1A72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317E-3B5A-46EF-96AE-05AD5366F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42EA-895A-4B7C-BDD4-C8B9B1575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EE3-E647-4F08-850A-EC560431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F9F-80B7-420F-B768-CC1A147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2F8-931A-46F5-9BE6-0C397874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AA6-6F06-4D84-A277-3A78CCB6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2CB-784B-4454-A144-FEFAF120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A5E-3BF6-4E6F-B3E3-949610A2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559-8FB7-4168-8EF1-8F6B6B3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4A1-7F0D-42D1-8DB1-6F97E07A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6C4-5A4C-411C-AE15-D35B08EF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D7C-1C89-443D-8281-116C90B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0EF-8ED6-4708-AC4D-B78CFF3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578-97F5-40D7-A0CE-D1C4D1E9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5964-BFD8-4DDD-B052-94DD5A2A9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867280" y="2438280"/>
            <a:ext cx="1676520" cy="762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Basic Shap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sosceles Triangle 5"/>
          <p:cNvSpPr/>
          <p:nvPr/>
        </p:nvSpPr>
        <p:spPr>
          <a:xfrm>
            <a:off x="228600" y="2971800"/>
            <a:ext cx="1257480" cy="1131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1676520" y="2895480"/>
            <a:ext cx="1084320" cy="113184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14400" y="1676520"/>
            <a:ext cx="1084320" cy="1131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800600" y="1600200"/>
            <a:ext cx="914400" cy="13716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Heart 8"/>
          <p:cNvSpPr/>
          <p:nvPr/>
        </p:nvSpPr>
        <p:spPr>
          <a:xfrm>
            <a:off x="3429000" y="3657600"/>
            <a:ext cx="1523880" cy="1523880"/>
          </a:xfrm>
          <a:custGeom>
            <a:avLst/>
            <a:gdLst>
              <a:gd name="textAreaLeft" fmla="*/ 253800 w 1523880"/>
              <a:gd name="textAreaRight" fmla="*/ 1270080 w 1523880"/>
              <a:gd name="textAreaTop" fmla="*/ 380880 h 1523880"/>
              <a:gd name="textAreaBottom" fmla="*/ 1015920 h 1523880"/>
            </a:gdLst>
            <a:ahLst/>
            <a:rect l="textAreaLeft" t="textAreaTop" r="textAreaRight" b="textAreaBottom"/>
            <a:pathLst>
              <a:path w="1524000" h="1524000">
                <a:moveTo>
                  <a:pt x="762000" y="381000"/>
                </a:moveTo>
                <a:cubicBezTo>
                  <a:pt x="1079500" y="-508000"/>
                  <a:pt x="2317750" y="381000"/>
                  <a:pt x="762000" y="1524000"/>
                </a:cubicBezTo>
                <a:cubicBezTo>
                  <a:pt x="-793750" y="381000"/>
                  <a:pt x="444500" y="-508000"/>
                  <a:pt x="762000" y="381000"/>
                </a:cubicBez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iamond 9"/>
          <p:cNvSpPr/>
          <p:nvPr/>
        </p:nvSpPr>
        <p:spPr>
          <a:xfrm>
            <a:off x="7467480" y="1371600"/>
            <a:ext cx="1219320" cy="1371600"/>
          </a:xfrm>
          <a:prstGeom prst="diamond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rapezoid 10"/>
          <p:cNvSpPr/>
          <p:nvPr/>
        </p:nvSpPr>
        <p:spPr>
          <a:xfrm>
            <a:off x="5486400" y="3886200"/>
            <a:ext cx="1219320" cy="1447920"/>
          </a:xfrm>
          <a:custGeom>
            <a:avLst/>
            <a:gdLst>
              <a:gd name="textAreaLeft" fmla="*/ 203040 w 1219320"/>
              <a:gd name="textAreaRight" fmla="*/ 1016280 w 1219320"/>
              <a:gd name="textAreaTop" fmla="*/ 241200 h 1447920"/>
              <a:gd name="textAreaBottom" fmla="*/ 1448280 h 1447920"/>
            </a:gdLst>
            <a:ahLst/>
            <a:rect l="textAreaLeft" t="textAreaTop" r="textAreaRight" b="textAreaBottom"/>
            <a:pathLst>
              <a:path w="1219200" h="1447800">
                <a:moveTo>
                  <a:pt x="0" y="1447800"/>
                </a:moveTo>
                <a:lnTo>
                  <a:pt x="304800" y="0"/>
                </a:lnTo>
                <a:lnTo>
                  <a:pt x="914400" y="0"/>
                </a:lnTo>
                <a:lnTo>
                  <a:pt x="1219200" y="1447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ctagon 13"/>
          <p:cNvSpPr/>
          <p:nvPr/>
        </p:nvSpPr>
        <p:spPr>
          <a:xfrm>
            <a:off x="7162920" y="3886200"/>
            <a:ext cx="1371600" cy="1447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Hexagon 12"/>
          <p:cNvSpPr/>
          <p:nvPr/>
        </p:nvSpPr>
        <p:spPr>
          <a:xfrm>
            <a:off x="380880" y="4419720"/>
            <a:ext cx="1575000" cy="147132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gular Pentagon 11"/>
          <p:cNvSpPr/>
          <p:nvPr/>
        </p:nvSpPr>
        <p:spPr>
          <a:xfrm>
            <a:off x="2057400" y="4952880"/>
            <a:ext cx="1492200" cy="1386000"/>
          </a:xfrm>
          <a:prstGeom prst="pentagon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-Point Star 16"/>
          <p:cNvSpPr/>
          <p:nvPr/>
        </p:nvSpPr>
        <p:spPr>
          <a:xfrm>
            <a:off x="2895480" y="1600200"/>
            <a:ext cx="1219320" cy="1295280"/>
          </a:xfrm>
          <a:custGeom>
            <a:avLst/>
            <a:gdLst>
              <a:gd name="textAreaLeft" fmla="*/ 376560 w 1219320"/>
              <a:gd name="textAreaRight" fmla="*/ 842760 w 12193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219200" h="1295400">
                <a:moveTo>
                  <a:pt x="1" y="494797"/>
                </a:moveTo>
                <a:lnTo>
                  <a:pt x="465696" y="494801"/>
                </a:lnTo>
                <a:lnTo>
                  <a:pt x="609600" y="0"/>
                </a:lnTo>
                <a:lnTo>
                  <a:pt x="753504" y="494801"/>
                </a:lnTo>
                <a:lnTo>
                  <a:pt x="1219199" y="494797"/>
                </a:lnTo>
                <a:lnTo>
                  <a:pt x="842443" y="800597"/>
                </a:lnTo>
                <a:lnTo>
                  <a:pt x="986354" y="1295396"/>
                </a:lnTo>
                <a:lnTo>
                  <a:pt x="609600" y="989591"/>
                </a:lnTo>
                <a:lnTo>
                  <a:pt x="232846" y="1295396"/>
                </a:lnTo>
                <a:lnTo>
                  <a:pt x="376757" y="8005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arallelogram 14"/>
          <p:cNvSpPr/>
          <p:nvPr/>
        </p:nvSpPr>
        <p:spPr>
          <a:xfrm>
            <a:off x="6248520" y="5486400"/>
            <a:ext cx="1447560" cy="914400"/>
          </a:xfrm>
          <a:prstGeom prst="parallelogram">
            <a:avLst>
              <a:gd name="adj" fmla="val 24999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gular Pentagon 4"/>
          <p:cNvSpPr/>
          <p:nvPr/>
        </p:nvSpPr>
        <p:spPr>
          <a:xfrm>
            <a:off x="2362320" y="1752480"/>
            <a:ext cx="4419360" cy="4419720"/>
          </a:xfrm>
          <a:prstGeom prst="pentagon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Pentag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Hexagon 4"/>
          <p:cNvSpPr/>
          <p:nvPr/>
        </p:nvSpPr>
        <p:spPr>
          <a:xfrm>
            <a:off x="2362320" y="1752480"/>
            <a:ext cx="4419360" cy="4419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Hexag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ctagon 4"/>
          <p:cNvSpPr/>
          <p:nvPr/>
        </p:nvSpPr>
        <p:spPr>
          <a:xfrm>
            <a:off x="2362320" y="1752480"/>
            <a:ext cx="4419360" cy="4419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Octag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rapezoid 4"/>
          <p:cNvSpPr/>
          <p:nvPr/>
        </p:nvSpPr>
        <p:spPr>
          <a:xfrm>
            <a:off x="2362320" y="1752480"/>
            <a:ext cx="4419360" cy="4419720"/>
          </a:xfrm>
          <a:custGeom>
            <a:avLst/>
            <a:gdLst>
              <a:gd name="textAreaLeft" fmla="*/ 736560 w 4419360"/>
              <a:gd name="textAreaRight" fmla="*/ 3682800 w 4419360"/>
              <a:gd name="textAreaTop" fmla="*/ 736560 h 4419720"/>
              <a:gd name="textAreaBottom" fmla="*/ 4420080 h 4419720"/>
            </a:gdLst>
            <a:ahLst/>
            <a:rect l="textAreaLeft" t="textAreaTop" r="textAreaRight" b="textAreaBottom"/>
            <a:pathLst>
              <a:path w="4419600" h="4419600">
                <a:moveTo>
                  <a:pt x="0" y="4419600"/>
                </a:moveTo>
                <a:lnTo>
                  <a:pt x="1104900" y="0"/>
                </a:lnTo>
                <a:lnTo>
                  <a:pt x="3314700" y="0"/>
                </a:lnTo>
                <a:lnTo>
                  <a:pt x="4419600" y="4419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Trapezoi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arallelogram 4"/>
          <p:cNvSpPr/>
          <p:nvPr/>
        </p:nvSpPr>
        <p:spPr>
          <a:xfrm>
            <a:off x="2362320" y="1752480"/>
            <a:ext cx="4419360" cy="4419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Parallelogra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4"/>
          <p:cNvSpPr/>
          <p:nvPr/>
        </p:nvSpPr>
        <p:spPr>
          <a:xfrm>
            <a:off x="2362320" y="1752480"/>
            <a:ext cx="4419360" cy="4419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Circ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362320" y="1752480"/>
            <a:ext cx="441936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Squar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Isosceles Triangle 4"/>
          <p:cNvSpPr/>
          <p:nvPr/>
        </p:nvSpPr>
        <p:spPr>
          <a:xfrm>
            <a:off x="2362320" y="1752480"/>
            <a:ext cx="4419360" cy="4419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Triang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5-Point Star 4"/>
          <p:cNvSpPr/>
          <p:nvPr/>
        </p:nvSpPr>
        <p:spPr>
          <a:xfrm>
            <a:off x="2362320" y="1752480"/>
            <a:ext cx="4419360" cy="4419720"/>
          </a:xfrm>
          <a:custGeom>
            <a:avLst/>
            <a:gdLst>
              <a:gd name="textAreaLeft" fmla="*/ 1365480 w 4419360"/>
              <a:gd name="textAreaRight" fmla="*/ 3053880 w 4419360"/>
              <a:gd name="textAreaTop" fmla="*/ 1688040 h 4419720"/>
              <a:gd name="textAreaBottom" fmla="*/ 3376440 h 4419720"/>
            </a:gdLst>
            <a:ahLst/>
            <a:rect l="textAreaLeft" t="textAreaTop" r="textAreaRight" b="textAreaBottom"/>
            <a:pathLst>
              <a:path w="4419600" h="4419600">
                <a:moveTo>
                  <a:pt x="5" y="1688132"/>
                </a:moveTo>
                <a:lnTo>
                  <a:pt x="1688146" y="1688144"/>
                </a:lnTo>
                <a:lnTo>
                  <a:pt x="2209800" y="0"/>
                </a:lnTo>
                <a:lnTo>
                  <a:pt x="2731454" y="1688144"/>
                </a:lnTo>
                <a:lnTo>
                  <a:pt x="4419595" y="1688132"/>
                </a:lnTo>
                <a:lnTo>
                  <a:pt x="3053854" y="2731449"/>
                </a:lnTo>
                <a:lnTo>
                  <a:pt x="3575533" y="4419585"/>
                </a:lnTo>
                <a:lnTo>
                  <a:pt x="2209800" y="3376251"/>
                </a:lnTo>
                <a:lnTo>
                  <a:pt x="844067" y="4419585"/>
                </a:lnTo>
                <a:lnTo>
                  <a:pt x="1365746" y="2731449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Sta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Heart 4"/>
          <p:cNvSpPr/>
          <p:nvPr/>
        </p:nvSpPr>
        <p:spPr>
          <a:xfrm>
            <a:off x="2362320" y="1752480"/>
            <a:ext cx="4419360" cy="4419720"/>
          </a:xfrm>
          <a:custGeom>
            <a:avLst/>
            <a:gdLst>
              <a:gd name="textAreaLeft" fmla="*/ 736560 w 4419360"/>
              <a:gd name="textAreaRight" fmla="*/ 3682800 w 4419360"/>
              <a:gd name="textAreaTop" fmla="*/ 1104840 h 4419720"/>
              <a:gd name="textAreaBottom" fmla="*/ 2946600 h 4419720"/>
            </a:gdLst>
            <a:ahLst/>
            <a:rect l="textAreaLeft" t="textAreaTop" r="textAreaRight" b="textAreaBottom"/>
            <a:pathLst>
              <a:path w="4419600" h="4419600">
                <a:moveTo>
                  <a:pt x="2209800" y="1104900"/>
                </a:moveTo>
                <a:cubicBezTo>
                  <a:pt x="3130550" y="-1473200"/>
                  <a:pt x="6721475" y="1104900"/>
                  <a:pt x="2209800" y="4419600"/>
                </a:cubicBezTo>
                <a:cubicBezTo>
                  <a:pt x="-2301875" y="1104900"/>
                  <a:pt x="1289050" y="-1473200"/>
                  <a:pt x="2209800" y="110490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He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380880" y="1752480"/>
            <a:ext cx="3581640" cy="4419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Ova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3"/>
          <p:cNvSpPr/>
          <p:nvPr/>
        </p:nvSpPr>
        <p:spPr>
          <a:xfrm rot="5400000">
            <a:off x="4762080" y="1752480"/>
            <a:ext cx="3581280" cy="4419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762120" y="2743200"/>
            <a:ext cx="4419360" cy="228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Rectang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 rot="5400000">
            <a:off x="4876920" y="2742840"/>
            <a:ext cx="4419360" cy="228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iamond 4"/>
          <p:cNvSpPr/>
          <p:nvPr/>
        </p:nvSpPr>
        <p:spPr>
          <a:xfrm>
            <a:off x="2362320" y="1752480"/>
            <a:ext cx="4419360" cy="4419720"/>
          </a:xfrm>
          <a:prstGeom prst="diamond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Diamo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7150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ho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45:36Z</dcterms:created>
  <dc:creator>Sedgwick</dc:creator>
  <dc:description/>
  <dc:language>en-US</dc:language>
  <cp:lastModifiedBy>Sedgwick</cp:lastModifiedBy>
  <dcterms:modified xsi:type="dcterms:W3CDTF">2011-06-01T08:46:43Z</dcterms:modified>
  <cp:revision>21</cp:revision>
  <dc:subject/>
  <dc:title>Slide 1</dc:title>
</cp:coreProperties>
</file>